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009-E031-4314-8297-6601420C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C64-142E-47D7-A8A9-D65C12C6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72D-348C-4E9F-9C77-FC84BECD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23A-4762-4F38-BD8B-7253FB66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1F0-25B6-4448-864F-21424612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4F0-5E23-4E13-A227-90BDA1C8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350-A9F0-4261-B323-A08BB4A4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D82-6942-4921-AA96-717DA01C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F20-5C71-422E-B18E-7B96ACDA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759-EFE6-43CB-88FA-AAD8A1B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2ED-1A80-4EAB-B83A-0478CC77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B15-74BF-451B-8933-90DBF0F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3009-8FDE-4DB4-A854-DB0B4ECE8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066680"/>
            <a:ext cx="914400" cy="91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590920"/>
            <a:ext cx="9144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" cy="914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638680"/>
            <a:ext cx="91440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7086600"/>
            <a:ext cx="914400" cy="9144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1219320"/>
            <a:ext cx="533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743200"/>
            <a:ext cx="5331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4267080"/>
            <a:ext cx="5331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791320"/>
            <a:ext cx="533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7315200"/>
            <a:ext cx="5331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1143000"/>
            <a:ext cx="397800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ful  because he wants to know if his family saf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438280"/>
            <a:ext cx="39783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traordinary because he took chances and escaped from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4191120"/>
            <a:ext cx="3978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 gave up for his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5715000"/>
            <a:ext cx="397800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gnized because what he did was amaz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7238880"/>
            <a:ext cx="3978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ng when he was separated from hi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8400" y="30492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Box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048120" y="8458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79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23:23:09Z</dcterms:created>
  <dc:creator>Stephanie Sproul</dc:creator>
  <dc:description/>
  <dc:language>en-US</dc:language>
  <cp:lastModifiedBy>ssproul</cp:lastModifiedBy>
  <dcterms:modified xsi:type="dcterms:W3CDTF">2011-08-03T18:41:32Z</dcterms:modified>
  <cp:revision>16</cp:revision>
  <dc:subject/>
  <dc:title>Slide 1</dc:title>
</cp:coreProperties>
</file>